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2A2-E16C-4306-AA28-DFAB0393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55D-2A71-411C-BB86-7DF56421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AF5-C0FB-45BD-BB7E-08B4CEC5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421-8EE8-405E-B074-0C6D0C91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5936-FF1A-476C-9FE9-C58C7D9E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6300-151E-4A44-A824-8573753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540D-C0F6-408B-A4D7-432F5D85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5983-6E46-4FBF-A183-C14260F8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F4C6-92C4-405A-96AB-1719476B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6EEC-0C67-4FB0-AFDA-E11A6965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9EE8-129D-40D2-841A-AAAA744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ECC-EA35-4452-BD95-EFCB289E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16CC-70EE-41B4-AFDE-B9781E9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F645-0003-465F-9B2F-2F11A676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916-8612-445B-8C33-2BBCF010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D997-5D35-4C63-AB51-DDFB99DA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8964-B377-4352-84B7-D764D3BF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583-9930-4944-9E2F-967FAB24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696-0084-4EFD-9889-6433AC73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27D-A96E-4CEF-BFE0-6C7ABEC2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9F0-8388-4169-A353-1A6FDE8B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773-F206-4E21-B0E0-5B00B22F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A61-3668-48BB-B4E3-7C29F268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8EB-8D6B-41AC-BB8E-AEF5B9D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8330-E02D-4150-A5F4-42C57516F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FF9B-800A-4F07-81D1-334066811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audio" Target="file:///tmp/home/.config/libreoffice/4/user/gallery/MSj00746740000%5B1%5D.wav" TargetMode="External"/><Relationship Id="rId7" Type="http://schemas.microsoft.com/office/2007/relationships/media" Target="file:///tmp/home/.config/libreoffice/4/user/gallery/MSj00746740000%5B1%5D.wav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7e7ff"/>
                </a:solidFill>
                <a:latin typeface="Arial"/>
              </a:rPr>
              <a:t>Recycling</a:t>
            </a:r>
            <a:endParaRPr b="0" lang="en-US" sz="7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el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b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u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Waste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ps of food, organic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ana P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448080" cy="4343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51814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6440400" y="3583080"/>
          <a:ext cx="60984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0400" y="358308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79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type of pape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az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er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Car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tion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2971800" cy="187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203976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400800" y="3124080"/>
            <a:ext cx="2743200" cy="185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1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81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stic 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893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type of plastic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Bot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tic B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tic To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tic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2640" y="1676160"/>
            <a:ext cx="4189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2971800" cy="2486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2667240" cy="255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1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9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type of rubbe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bers B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ber Gl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2640" y="1676160"/>
            <a:ext cx="4189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267080" cy="3044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cycling Tips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e bot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ecycling b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t to make fertil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e water in our home (bathwater and dishwashing water can water our pl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609120"/>
            <a:ext cx="419400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e old electronics to businesses or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possible recyclable objects/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an artist (give materials to students or schools for project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038840" cy="263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57:02Z</dcterms:created>
  <dc:creator>USER</dc:creator>
  <dc:description/>
  <dc:language>en-US</dc:language>
  <cp:lastModifiedBy>USER</cp:lastModifiedBy>
  <dcterms:modified xsi:type="dcterms:W3CDTF">2009-10-08T15:03:43Z</dcterms:modified>
  <cp:revision>5</cp:revision>
  <dc:subject/>
  <dc:title>Recycling</dc:title>
</cp:coreProperties>
</file>